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34AB-969C-4909-9842-6DDA28A4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CC9-0C5B-429E-906A-F8B92935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AD2-BB1F-45E4-B0AB-D1C5C83B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E7D5-63F3-4ECE-BC1A-CC014B7D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B7D2-7898-4D9A-A681-4532089C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4EC6-CF68-4C8C-B44D-67CD5D81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4CFD-1E88-457F-B53C-EA3C52A3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864F-378E-446D-BEB5-24F1D32B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A5AE-E63A-4987-AC56-4B4D6964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81CE-3A97-4057-8F0D-9C81819B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F5C4-64C1-45AF-9D59-59556E59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1468-4015-496F-910E-E594A98E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5496-7E66-4DB3-92FF-2279AE81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E20C-240D-4866-AB2D-A8A38F84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6162-AD26-426D-B88F-23E08C09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B0F9-3B0F-4AEB-8652-4A1596DF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9C67-B731-42FE-9B7B-56076E98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D4D8C-83E0-4339-B8C8-474253DD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50AB8-6879-4A36-83E0-B9AE4147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A23C7-4FC0-4B05-AD18-86483D3A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20FBF-5539-499A-B12D-45205505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F4CD9-0302-4FDD-9487-05F344C2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F7F2-58B4-4E59-95C7-CFC8F249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04DE-D1EE-4446-BD8C-659E3519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0BA88-861D-4B29-98DD-3CB144F2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24B4D-4C0B-4FFF-AFE0-27E470DC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497AF-CD4A-4A5A-A13D-38590BEF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1D1AD-2716-42E8-832C-2C9616D3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D5890-AD99-4F90-A91A-99A80EE4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389D9-39C7-4EE0-B9DC-E435CFD9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CEA8B-8F8A-490F-B353-42F87827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C632E-8698-4ECA-B48F-E0D67A68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603C3-558A-44A8-98B3-470A3721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AA1-DCEC-40F5-8A74-D5B1EF07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8C1A5-BDD2-42BE-85E9-4D7A6CA9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3727B-BB64-497D-809B-C66BEC13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C0D69-38C4-4C05-844D-524F510D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28BA4-A53A-425D-9CE9-9B8E9924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388C7-9E6B-4C58-8590-D82DA3F9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1799D-DF87-41B5-8BBD-6102DB41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89515-3E4E-45EC-B2B4-B28B013E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204D4-5B86-4302-A0B7-0DEC34F9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7A75A-CA8D-44B5-9454-91F449BC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C901F-07F7-406C-9244-811C83D1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0EC1-A5FC-421B-BDB2-171DBF0B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35ECC-90B5-45B7-B627-3C809B21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84AF7-B7BB-4E8A-88ED-2CD6E395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76FB9-8652-4275-A5F7-EEF1CD8F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5ABC7-79EE-4EBD-A3E2-C5980651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EDC7B-5326-4687-A950-163F15A4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AC9C1-E678-4B35-BCCB-35B77DFD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7DE65-0076-4ECB-BC16-93CE87E3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1973A-918B-4BAC-AA61-15097DDE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5776B-C153-4685-AC25-3C15803E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5EFB0-6B43-4461-87DB-9C46CC82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B2C3-7565-4072-B368-968BAEC2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66286-4729-4EA9-B16C-864E3EBC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BCF-4FCC-4D65-BDD1-DA9CE03A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3B3-B15B-4A2D-B54D-DAE5C9A6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DD3-FEC7-48E9-A19F-513B0C46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1AF8-5C8D-4A91-A3A1-5946BD69D4C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9966-0DC6-4D0C-B0BC-2F6CD9FDB79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CA73-FE85-4C55-B0F2-2CD475D9118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DD52-FF5F-48FC-B4F6-534A5DD6C73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FF84-F79A-423C-BA8C-D37ED185139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ÁT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significa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9640" y="2060640"/>
          <a:ext cx="8229600" cy="4349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ABRAS LÉX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MATIC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 SIGNIFICADO LÉX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 SIGNIFICADO SOLO GRAMAT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STANTIVO (Laura, hij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O ( canta, salió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TIVO CALIFIC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pequeña, conten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RBIO ( muy, ay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NOMBRE (ella, él, es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NTE ( su, u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OSICIÓN ( a, c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JUNCIÓN ( y, per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JECCIÓN  (oh, cara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for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24000" y="1773360"/>
          <a:ext cx="8424720" cy="4871880"/>
        </p:xfrm>
        <a:graphic>
          <a:graphicData uri="http://schemas.openxmlformats.org/drawingml/2006/table">
            <a:tbl>
              <a:tblPr/>
              <a:tblGrid>
                <a:gridCol w="2874600"/>
                <a:gridCol w="5550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XEMA O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rta signif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Mar en Mar-ino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85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F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FLEXIVO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modifican el signif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do gramatical: género, 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arin-o ; marin-a) (marino-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ERIVATIVOS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PREFIJOS: delante de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ub- marino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SUFIJOS: detrás de la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mar-ino; mar-ítimo; mar-iner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for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24000" y="1773360"/>
          <a:ext cx="8424720" cy="4816440"/>
        </p:xfrm>
        <a:graphic>
          <a:graphicData uri="http://schemas.openxmlformats.org/drawingml/2006/table">
            <a:tbl>
              <a:tblPr/>
              <a:tblGrid>
                <a:gridCol w="2376360"/>
                <a:gridCol w="604836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ten morfemas flexivo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sustantivos, adjetivos, pronombres, verbos, determinant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llevan nunca morf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reposiciones, conjunciones, adverbi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jeccion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nen un solo lexem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apeles, pis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EST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nen dos lex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pisapapeles, sacacorch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INTAG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 Un sintagma 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palabra o grupo de palab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 sentido unit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cumple una función en la fr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Y lleva obligatoriamente un NÚCL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 CLASES DE SINTAGM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NOMINAL (SN) :su núcleo es un sustantivo o pronomb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VERBAL (SV) : su núcleo es un verb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ADJETIVAL ( S.Adj): núcleo un adje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ADVERBIAL (S.Adv): núcleo es adverb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PREPOSICIONAL ( S.Prep): preposición (ENLACE) y sintagma nominal ( TÉRMI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2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2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200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FUNCIÓN DE LOS SINTAGM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1. SUJETO   (SN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núcleo 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n sustantiv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ronomb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na palabra sustantiv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2. PREDICADO  (SV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núcleo es el ver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3. COMPLEMENTO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ujeto: SN, Sadj. y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predicado: SN, S Adj. , S Adv. y 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intagma adjetival: S Pr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intagma adverbial: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20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2000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2000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2000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2000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2000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2000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21:26:48Z</dcterms:modified>
  <cp:revision>5</cp:revision>
  <dc:subject/>
  <dc:title>Diapositiva 1</dc:title>
</cp:coreProperties>
</file>